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5A2-27B4-45C5-8341-6CBD9BE0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42C-1D96-43A1-A6DA-8001B5EA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193-C95D-4B87-BBE9-7075C720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CDF-4B57-4CC3-B915-8937AB7F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CCE6-ACEF-4690-AE69-B412F06E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A0DC-7BA5-471A-8EFB-3048037B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6FED-C387-4787-B08A-DE2020B5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5B49-1E47-4293-86EF-792CAAD6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6CF7-A455-498A-A4AE-94478942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8F71-57EE-46D2-8E89-CDC4FD4F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1D01-7F74-4E19-A6D0-F1F198E0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5EB-4028-4B23-9BDF-F43303BF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7660-F7C6-43C2-ABAF-E183DBCB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BF85-7620-4B81-8D17-4DE3B902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CDA2-13CA-424D-B308-82D2CC55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481B-4956-4735-98D7-A1B6DFBB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4C73-211D-4751-B10C-B942C1E7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3D9-A5AC-4049-9292-81BA455B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F7B-BD2E-42F3-98B6-AFC85AB2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4D7-EF0D-4A71-84A8-DA3FF85D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A29-859C-461A-9A53-541C9A56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79D-3A85-4AB6-9B9B-7D2D449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08D-9882-47E3-950B-36E39A5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6CE-78E5-42AA-BDF7-9E399742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A5D4-5BD5-4A66-AB60-84856E27966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AE81-DA4C-4DA0-9C26-62FAB1CDB17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TIETOTEKNIIKAN KURSSIT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05160" y="2227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ut tietotekniikan kurs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totekniikan alkeis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totekniikan perus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totekniikan jatko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-englannin perus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mattiosaston mikrotuki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itysgrafiikkaohjelman käytt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42640" y="2227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etokoneen A-kor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etotekniikan merkitys ja laitteist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Laitteen käyttö ja tiedon halli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ekstinkäsit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aulukkolask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etokantaohjelman käyttö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7:54:25Z</dcterms:created>
  <dc:creator>atk</dc:creator>
  <dc:description/>
  <dc:language>en-US</dc:language>
  <cp:lastModifiedBy>Kurssi</cp:lastModifiedBy>
  <dcterms:modified xsi:type="dcterms:W3CDTF">2003-02-17T11:14:41Z</dcterms:modified>
  <cp:revision>3</cp:revision>
  <dc:subject/>
  <dc:title>TIETOTEKNIIKAN KURSSIT 2001</dc:title>
</cp:coreProperties>
</file>